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447B5-4757-46D4-BD48-761D63D133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1C3A5-BB43-4AAD-9D60-93E7102998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4CFE2-1553-4E1E-ADA8-6657BF43B3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28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136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28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136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4473D-A1C4-459C-95E8-931AE2E662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9CFAD-26C9-4A69-B6FF-7D59291B91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43366-D7EC-433B-9AF4-6DC674282A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ABCA1-E7AB-4409-851A-49D22A84C2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68FDE-F058-403A-9718-82EB1660CB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1582560"/>
            <a:ext cx="7770960" cy="53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DCF5C-34AF-4F75-8ACD-90D973DA6C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1A87F-430D-4B0F-9579-829AE4EEBD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B3B35-608A-4855-A44D-6F72C4833B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2419F-7D5D-4FDD-A1E3-3D2E3C6C0A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556120" y="4749480"/>
            <a:ext cx="546120" cy="392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s-ES" sz="13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3AA935DA-C7A6-4279-B2C7-781321AA7122}" type="slidenum">
              <a:rPr b="0" lang="es-E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433520"/>
            <a:ext cx="7772400" cy="16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7200" spc="-1" strike="noStrike">
                <a:solidFill>
                  <a:srgbClr val="000000"/>
                </a:solidFill>
                <a:latin typeface="Arial"/>
                <a:ea typeface="Arial"/>
              </a:rPr>
              <a:t>Tabla del 3 </a:t>
            </a:r>
            <a:r>
              <a:rPr b="1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(1)</a:t>
            </a: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9600"/>
            </a:b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Extendida con decim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 x 0,6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1433520"/>
            <a:ext cx="7772400" cy="16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,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0 x 0,3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1433520"/>
            <a:ext cx="7772400" cy="16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 x 0,1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1433520"/>
            <a:ext cx="7772400" cy="16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 x 3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1433520"/>
            <a:ext cx="7772400" cy="16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 x 3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1433520"/>
            <a:ext cx="7772400" cy="16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,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685800" y="1433520"/>
            <a:ext cx="7772400" cy="16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 x 3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 x 0,02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1433520"/>
            <a:ext cx="7772400" cy="16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6 x 3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1433520"/>
            <a:ext cx="7772400" cy="16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0 x 0,3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1433520"/>
            <a:ext cx="7772400" cy="16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 x 3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1433520"/>
            <a:ext cx="7772400" cy="16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 x 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5800" y="1433520"/>
            <a:ext cx="7772400" cy="16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,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433520"/>
            <a:ext cx="7772400" cy="16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60 x 0,3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1433520"/>
            <a:ext cx="7772400" cy="16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0 x 0,02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5800" y="1433520"/>
            <a:ext cx="7772400" cy="16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 x 0,001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1433520"/>
            <a:ext cx="7772400" cy="16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0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3 x 4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85800" y="1433520"/>
            <a:ext cx="7772400" cy="16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0 X 0,5 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1433520"/>
            <a:ext cx="7772400" cy="16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 x 0,3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0 x 0,6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1433520"/>
            <a:ext cx="7772400" cy="16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 x 3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1433520"/>
            <a:ext cx="7772400" cy="16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 x 0,2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5800" y="1433520"/>
            <a:ext cx="7772400" cy="16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 x 0,4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1433520"/>
            <a:ext cx="7772400" cy="16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 x 0,5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1433520"/>
            <a:ext cx="7772400" cy="16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433520"/>
            <a:ext cx="7772400" cy="16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 x 0,6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5800" y="1433520"/>
            <a:ext cx="7772400" cy="16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 x 0,001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1433520"/>
            <a:ext cx="7772400" cy="16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0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 x 0,03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1433520"/>
            <a:ext cx="7772400" cy="16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 x 0,03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85800" y="1433520"/>
            <a:ext cx="7772400" cy="16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5 x 0,03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" y="1433520"/>
            <a:ext cx="7772400" cy="16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 x 0,4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6 x 0,03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5800" y="1433520"/>
            <a:ext cx="7772400" cy="16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 x 0,3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1433520"/>
            <a:ext cx="7772400" cy="16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3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0 x 0,3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85800" y="1433520"/>
            <a:ext cx="7772400" cy="16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9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5 x 3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1433520"/>
            <a:ext cx="7772400" cy="16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50 x 0,03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433520"/>
            <a:ext cx="7772400" cy="16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,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1433520"/>
            <a:ext cx="7772400" cy="16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 X 0,3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1433520"/>
            <a:ext cx="7772400" cy="16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 X 0,03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85800" y="1433520"/>
            <a:ext cx="7772400" cy="16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0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 x 0,03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1433520"/>
            <a:ext cx="7772400" cy="16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0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 x 0,04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5800" y="1433520"/>
            <a:ext cx="7772400" cy="16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1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 x 0,05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1433520"/>
            <a:ext cx="7772400" cy="16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1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 x 0,5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 x 0,0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85800" y="1433520"/>
            <a:ext cx="7772400" cy="16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1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3 x 0,3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1433520"/>
            <a:ext cx="7772400" cy="16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0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3 x 0,4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5800" y="1433520"/>
            <a:ext cx="7772400" cy="16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1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3 x 0,5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5800" y="1433520"/>
            <a:ext cx="7772400" cy="16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1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01 X 3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85800" y="1433520"/>
            <a:ext cx="7772400" cy="16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0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1433520"/>
            <a:ext cx="7772400" cy="16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,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03 x 3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85800" y="1433520"/>
            <a:ext cx="7772400" cy="16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0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 x 0,003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85800" y="1433520"/>
            <a:ext cx="7772400" cy="16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1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5 x 0,003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85800" y="1433520"/>
            <a:ext cx="7772400" cy="16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1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06 x 3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85800" y="1433520"/>
            <a:ext cx="7772400" cy="16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1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